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32F-AAC9-482A-999D-1725049B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1AB-62DA-4F51-B3C3-EB7FC325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007-FA9D-4DC3-B986-291C35FE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71D-70CE-47A5-9257-70E1B3A7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F5E4-F44E-4DE5-BB4A-6D413463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EE7E-BAC4-472E-9DE5-2B2B6007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A7E8-E8EF-47CA-AB32-BABB781D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7E79-4F80-42E6-B677-267B7683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C214-005D-476F-AE39-74B279ED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67F3-3F63-48F6-B5F0-3995B8DE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7B2A-BFCD-4E46-8242-FABB19A7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A25-230D-4F5B-ADFA-DA33B5AA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B679-5411-4B57-A6C3-8B4A6DDE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BB0D-0931-4187-B31F-1F95C4BA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D5FF-E601-44B2-AD49-CAE45024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F65E-3A69-4D85-8F2C-56DB561E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3ED0-3FDE-4169-9880-EA06B290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ED0-5E4E-4BAA-9990-C358B787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3B8-39A1-4F50-96DE-CF643332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36A-DE85-4B95-BA9C-5484AD5C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F15-057D-40FF-8EED-AC883700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E8E-2AD8-4153-A9A0-A79EED80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83B4-8C28-4EA8-AF00-6910ECB5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4E5-7205-42AC-81EF-DF6276CF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1D05-0CF2-4550-868A-11019B4CBC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1D96-DE94-4F3B-8CC5-BD553B7B04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harley-davidson-parts-catalog.com/wp-content/uploads/2009/06/harley-davidson-jacket.jpg&amp;imgrefurl=http://harley-davidson-parts-catalog.com/harley-davidson-jacket/&amp;usg=__klW11RN3L_P2lGL1NaduCl821ws=&amp;h=389&amp;w=406&amp;sz=92&amp;hl=el&amp;start=126&amp;um=1&amp;itbs=1&amp;tbnid=XuQ7Ch9QzR22oM:&amp;tbnh=119&amp;tbnw=124&amp;prev=/images%3Fq%3Dharley%2Bdavidson%2Bacessories%26start%3D108%26um%3D1%26hl%3Del%26lr%3D%26sa%3DN%26ndsp%3D18%26tbs%3Disch:1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Harley Davidson: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problems-solution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27640" y="189000"/>
            <a:ext cx="2737080" cy="2101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340000" y="2133720"/>
            <a:ext cx="3297240" cy="43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74760" y="8175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blem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 of the average age of the bu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of the ear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ld “manly” fash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0860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39800" y="82044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utions…new clothes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m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284720" cy="4298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042920" y="3068640"/>
            <a:ext cx="35226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58920" y="3598920"/>
            <a:ext cx="2903400" cy="299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8920" y="404640"/>
            <a:ext cx="2981160" cy="2860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364000" y="350028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lutions…new clothes 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53708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3336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835280" y="189000"/>
            <a:ext cx="4824360" cy="3281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835280" y="3789360"/>
            <a:ext cx="4752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cessories for all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ng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wel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0" y="2997360"/>
            <a:ext cx="228600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372360" y="260280"/>
            <a:ext cx="2381040" cy="2419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059280" y="1413000"/>
            <a:ext cx="2571480" cy="2571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2808360" cy="2206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21164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700440" cy="381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3280" y="3357720"/>
            <a:ext cx="4069080" cy="3295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292720" y="333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42920" y="4221000"/>
            <a:ext cx="2952720" cy="24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3:12:48Z</dcterms:created>
  <dc:creator>IST</dc:creator>
  <dc:description/>
  <dc:language>en-US</dc:language>
  <cp:lastModifiedBy>CUT</cp:lastModifiedBy>
  <dcterms:modified xsi:type="dcterms:W3CDTF">2010-03-04T09:32:20Z</dcterms:modified>
  <cp:revision>4</cp:revision>
  <dc:subject/>
  <dc:title>Harley Davidson: problems-solutions </dc:title>
</cp:coreProperties>
</file>