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1F23-1363-4717-B473-CA1C4E62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F780-A5E0-4D20-96C6-3AC5287B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B30C-94FC-40CD-94F6-55305098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628-C118-4BEA-894D-027E6480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6B60-4FF3-4BC0-AB5E-CDBD4A6C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D22A-BCED-4677-92F7-17E52D33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F5C5-5855-42A6-9723-CDA12BCF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4AAC-5A2F-4038-B809-2954CECB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BD09-5A49-42EB-8DAD-C592B7C1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C7D3-2A4F-4772-901C-4B0E34BB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AF05-8850-44AD-AADC-017CA6E8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11BE-9722-4590-8094-A2C9364C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C662-A8FC-436F-89DB-319C8D0A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B3E3-D358-4890-9BBA-BE402DAB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050A-7668-40FE-9B74-F5B13FE2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B87D-D710-4A2B-B19A-FB77134B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542B-22F0-409E-A26F-A452D40C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EF0-F87F-4885-B73E-F89A72BD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2AC-8FC3-443B-84CC-7C337D51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789C-10C5-49E2-8B38-C5E05173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D833-F2A3-425A-A236-F904F83E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3B3-CA33-4818-BEE8-8FE9EA8A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73E7-628F-413E-805F-21FF4ED8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85C-2BE1-4FA9-B275-2684E849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EBBC-C6E4-4013-A14A-6D19F614C6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D2EC-1F8D-41E3-85D6-63617002C8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harley-davidson-parts-catalog.com/wp-content/uploads/2009/06/harley-davidson-jacket.jpg&amp;imgrefurl=http://harley-davidson-parts-catalog.com/harley-davidson-jacket/&amp;usg=__klW11RN3L_P2lGL1NaduCl821ws=&amp;h=389&amp;w=406&amp;sz=92&amp;hl=el&amp;start=126&amp;um=1&amp;itbs=1&amp;tbnid=XuQ7Ch9QzR22oM:&amp;tbnh=119&amp;tbnw=124&amp;prev=/images%3Fq%3Dharley%2Bdavidson%2Bacessories%26start%3D108%26um%3D1%26hl%3Del%26lr%3D%26sa%3DN%26ndsp%3D18%26tbs%3Disch:1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Harley Davidson: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problems-solution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2737080" cy="2101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340000" y="2133720"/>
            <a:ext cx="3297240" cy="43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2747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6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of the average age of the buy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 of the earn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d “manly” fash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40860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39800" y="82044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lutions…new clothes 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m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284720" cy="4298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3068640"/>
            <a:ext cx="352260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19640" y="40464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258920" y="3598920"/>
            <a:ext cx="2903400" cy="299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58920" y="404640"/>
            <a:ext cx="2981160" cy="2860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5364000" y="350028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lutions…new clothes 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w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453708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3336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835280" y="189000"/>
            <a:ext cx="4824360" cy="3281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835280" y="3789360"/>
            <a:ext cx="4752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ories for all 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ng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o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wel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0" y="2997360"/>
            <a:ext cx="2286000" cy="2381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372360" y="260280"/>
            <a:ext cx="2381040" cy="2419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059280" y="1413000"/>
            <a:ext cx="2571480" cy="2571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55640" y="4508640"/>
            <a:ext cx="2808360" cy="2206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211640" y="4221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3700440" cy="3816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4069080" cy="3295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292720" y="3333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42920" y="4221000"/>
            <a:ext cx="2952720" cy="24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3:12:48Z</dcterms:created>
  <dc:creator>IST</dc:creator>
  <dc:description/>
  <dc:language>en-US</dc:language>
  <cp:lastModifiedBy>CUT</cp:lastModifiedBy>
  <dcterms:modified xsi:type="dcterms:W3CDTF">2010-03-04T09:32:20Z</dcterms:modified>
  <cp:revision>4</cp:revision>
  <dc:subject/>
  <dc:title>Harley Davidson: problems-solutions </dc:title>
</cp:coreProperties>
</file>