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D7B-8BEB-46F3-8E44-59CFC2A4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F56-E52A-4D56-8F60-9462D6C5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3EA-E3BB-471B-BA20-416EDB01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9BF-2CA5-4239-82C3-D373A859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752-2BCF-4E5F-ABFF-4A4ED313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D87-8247-47B0-8974-F1AD37EA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9180-679B-4705-B4AC-F11638CA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372D-20E9-4238-987A-9DFAE717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5EA1-4BD6-412E-A207-DCEE6F8C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69DE-43ED-47B7-9AFC-7FDF218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264F-94CA-49C8-A333-F55DF2F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122-8C95-4C32-8DF0-CE118C9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E50F-BDB4-4783-91F6-1CF6243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77D8-07FA-405E-8582-0840BC0B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503C-0266-4C7E-A727-B87AF69F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7AF0-1D9C-4088-BDDF-654FCB1C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4AEE-BF7B-4DE6-A69D-961CF830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410-4F46-4958-9772-1B2AC9D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450-4F24-40F4-A6A5-8BA77E44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E9E-24E1-4FEF-98F8-CF062F16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180-8424-43CD-A836-A28C65BB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D55-DB79-4567-91CA-EF2B627D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CA0-2F81-455D-BE91-4B35D260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3F6-CC41-4DA9-8B31-604EACA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C032-DE3D-4CE4-A8BB-F65C2EBBF0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0F23-4532-41DE-8490-6400433B55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harley-davidson-parts-catalog.com/wp-content/uploads/2009/06/harley-davidson-jacket.jpg&amp;imgrefurl=http://harley-davidson-parts-catalog.com/harley-davidson-jacket/&amp;usg=__klW11RN3L_P2lGL1NaduCl821ws=&amp;h=389&amp;w=406&amp;sz=92&amp;hl=el&amp;start=126&amp;um=1&amp;itbs=1&amp;tbnid=XuQ7Ch9QzR22oM:&amp;tbnh=119&amp;tbnw=124&amp;prev=/images%3Fq%3Dharley%2Bdavidson%2Bacessories%26start%3D108%26um%3D1%26hl%3Del%26lr%3D%26sa%3DN%26ndsp%3D18%26tbs%3Disch: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Harley Davidson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roblems-solution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3297240" cy="43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of the average age of the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of the ear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“manly” fash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086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39800" y="8204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84720" cy="429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3598920"/>
            <a:ext cx="2903400" cy="29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046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36400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333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482436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47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ories for all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g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el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0" y="2997360"/>
            <a:ext cx="228600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381040" cy="241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2808360" cy="2206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700440" cy="38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69080" cy="329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295272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12:48Z</dcterms:created>
  <dc:creator>IST</dc:creator>
  <dc:description/>
  <dc:language>en-US</dc:language>
  <cp:lastModifiedBy>CUT</cp:lastModifiedBy>
  <dcterms:modified xsi:type="dcterms:W3CDTF">2010-03-04T09:32:20Z</dcterms:modified>
  <cp:revision>4</cp:revision>
  <dc:subject/>
  <dc:title>Harley Davidson: problems-solutions </dc:title>
</cp:coreProperties>
</file>