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0E8-DEBD-4A42-B201-F3F1B994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C00-A1AC-4DD6-B5B5-FA721BF5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D9F-3B0A-4E72-8AC6-B81BAF5B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A4A-B0EB-43EE-8249-CB25BB68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7FF3-2881-4DA0-80B5-D95B04B7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09F1-8B88-40B6-B000-57FFE756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9180-86CC-494E-B712-CA367ABB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B7AA-EF31-4376-B035-607FFABB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5968-95AF-45BE-B8DA-49F37926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274A-9099-4EB5-AF06-09FAFA96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5F87-3B31-4838-AE79-7E3A445C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3295-6583-4775-83D6-7EF95C17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D147-F193-4136-A6EC-A61921F4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3126-2111-4A7F-95E7-F5F79BB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ED22-EAA0-4690-A61E-71DDF7A5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DBDF-B50F-42E8-B00A-54D9BCEB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325E-CC86-43E5-BE88-FEF93E42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A15-7388-4FF8-B73B-03FB0BD9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EE9-42A4-4267-9DF0-2BE3DFEA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B39-F0FE-4F52-ADDB-38708969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20C-8B53-4926-9D6B-46C2FE84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34E-C772-45BA-B3DB-043AAB44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DCB-402A-4D83-AD5C-4E2843DF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83E-ACD8-4552-9F3E-29A56ADE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CF0F-5D18-442A-A062-ABD6E1BF66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1007-C64B-45EC-9637-705416D58A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harley-davidson-parts-catalog.com/wp-content/uploads/2009/06/harley-davidson-jacket.jpg&amp;imgrefurl=http://harley-davidson-parts-catalog.com/harley-davidson-jacket/&amp;usg=__klW11RN3L_P2lGL1NaduCl821ws=&amp;h=389&amp;w=406&amp;sz=92&amp;hl=el&amp;start=126&amp;um=1&amp;itbs=1&amp;tbnid=XuQ7Ch9QzR22oM:&amp;tbnh=119&amp;tbnw=124&amp;prev=/images%3Fq%3Dharley%2Bdavidson%2Bacessories%26start%3D108%26um%3D1%26hl%3Del%26lr%3D%26sa%3DN%26ndsp%3D18%26tbs%3Disch:1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Harley Davidson: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problems-solution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737080" cy="2101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340000" y="2133720"/>
            <a:ext cx="3297240" cy="43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747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of the average age of the bu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 of the earn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d “manly” fash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086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39800" y="8204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lutions…new clothes 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m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284720" cy="4298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35226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58920" y="3598920"/>
            <a:ext cx="2903400" cy="299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404640"/>
            <a:ext cx="2981160" cy="2860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364000" y="350028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lutions…new clothes 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53708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3336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4824360" cy="32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835280" y="3789360"/>
            <a:ext cx="4752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ories for all 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g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o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wel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0" y="2997360"/>
            <a:ext cx="228600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372360" y="260280"/>
            <a:ext cx="2381040" cy="2419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059280" y="1413000"/>
            <a:ext cx="2571480" cy="2571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2808360" cy="2206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21164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3700440" cy="381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069080" cy="3295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292720" y="333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42920" y="4221000"/>
            <a:ext cx="2952720" cy="24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3:12:48Z</dcterms:created>
  <dc:creator>IST</dc:creator>
  <dc:description/>
  <dc:language>en-US</dc:language>
  <cp:lastModifiedBy>CUT</cp:lastModifiedBy>
  <dcterms:modified xsi:type="dcterms:W3CDTF">2010-03-04T09:32:20Z</dcterms:modified>
  <cp:revision>4</cp:revision>
  <dc:subject/>
  <dc:title>Harley Davidson: problems-solutions </dc:title>
</cp:coreProperties>
</file>