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37A-168A-4E6F-B34A-62D55964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B8D-4D02-4F36-9F9E-1250B1DD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790-29AB-4213-808E-CEB366D0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DC4-5C93-482C-BB88-49874963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83A3-626A-455D-865C-9DC6B8DD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F0CC-D5D9-4A67-A581-B5C437D9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7DBF-67AF-4535-8224-0258EBEA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77EE-4AD4-4ADE-BD26-13D284F2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3853-4D17-4EA3-866C-E3DB1841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973C-0C63-4418-A18D-F8F69B0A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D857-DF6F-465C-8DDD-A0F862CA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C7B-2116-4143-B009-3D51EE5A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277F-A5C0-4777-9BE8-8E4752F6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B43A-12B8-45A1-8388-523DD9A3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BE50-C8E2-4BBD-80A3-CF35B39D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1DD4-1B15-43AB-B69C-5A8EF1D6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EEA6-055F-4EBF-9836-9FC59F60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5A3-3AED-4D76-A754-2950A324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FEA-708C-4BFF-8C01-D5741D6F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B9C-FB8D-4763-B2B3-220D0EA1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01D-D1F6-49F4-8DDC-9E18A945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DDA-91B1-424B-AE84-C386493C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DE2-AD26-4EFC-8619-CC8110F5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412-97FB-45C9-A06C-52CEA60F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3DA8-C7D1-4496-AFFF-304FD3C39C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498F-E9FB-4E68-90B0-BF3F68DC6E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harley-davidson-parts-catalog.com/wp-content/uploads/2009/06/harley-davidson-jacket.jpg&amp;imgrefurl=http://harley-davidson-parts-catalog.com/harley-davidson-jacket/&amp;usg=__klW11RN3L_P2lGL1NaduCl821ws=&amp;h=389&amp;w=406&amp;sz=92&amp;hl=el&amp;start=126&amp;um=1&amp;itbs=1&amp;tbnid=XuQ7Ch9QzR22oM:&amp;tbnh=119&amp;tbnw=124&amp;prev=/images%3Fq%3Dharley%2Bdavidson%2Bacessories%26start%3D108%26um%3D1%26hl%3Del%26lr%3D%26sa%3DN%26ndsp%3D18%26tbs%3Disch:1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Harley Davidson: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problems-solution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737080" cy="2101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340000" y="2133720"/>
            <a:ext cx="3297240" cy="43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747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of the average age of the bu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 of the earn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d “manly” fash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086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39800" y="8204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lutions…new clothes 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m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284720" cy="4298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35226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58920" y="3598920"/>
            <a:ext cx="2903400" cy="299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404640"/>
            <a:ext cx="2981160" cy="2860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364000" y="350028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lutions…new clothes 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53708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3336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4824360" cy="32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835280" y="3789360"/>
            <a:ext cx="4752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ories for all 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g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o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wel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0" y="2997360"/>
            <a:ext cx="228600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372360" y="260280"/>
            <a:ext cx="2381040" cy="2419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059280" y="1413000"/>
            <a:ext cx="2571480" cy="2571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2808360" cy="2206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21164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3700440" cy="381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069080" cy="3295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292720" y="333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42920" y="4221000"/>
            <a:ext cx="2952720" cy="24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3:12:48Z</dcterms:created>
  <dc:creator>IST</dc:creator>
  <dc:description/>
  <dc:language>en-US</dc:language>
  <cp:lastModifiedBy>CUT</cp:lastModifiedBy>
  <dcterms:modified xsi:type="dcterms:W3CDTF">2010-03-04T09:32:20Z</dcterms:modified>
  <cp:revision>4</cp:revision>
  <dc:subject/>
  <dc:title>Harley Davidson: problems-solutions </dc:title>
</cp:coreProperties>
</file>